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8727-89CF-480A-8F25-780909A9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18BF0-EE99-4F94-BE47-0BA4C877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0B9E-77EA-48A8-84C5-5CAE80A8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1F6F5-50B0-4751-A194-BE985494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D130-6470-4FA7-A3AA-2D6CF02B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814F-1A5E-474F-8554-38BB5579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3574-2FF7-477F-B139-2B6BB4FB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DE91-8F42-42F6-BE7F-3E33EB1C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E8DF-C24D-4647-ABE3-010710F7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DC40-7E35-4A43-887E-FBE5354E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DC2D-04B8-43A8-869B-2D20A511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933D-FAA5-45AD-9ED8-FF96B51B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9706-94F5-421C-9401-93FACD90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298F-309F-4E0A-9785-9544178A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E78B-7FBD-454E-BB90-25088529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7947-1E12-4314-A46C-7E0844BC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049B-99C2-4B9D-A94A-8624D711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F07C-33F2-41F8-9482-301CB1E9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F010-2A96-4E90-89DB-85439D70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3E89E-9602-442A-A613-E89E5180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E2A9-1023-4D11-9DE7-99DC9CB6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D985-40A4-435B-85A1-F010DCC9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D1D1-1433-4BFC-B4FD-A38EE909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62F1-82B5-4F43-A634-86B60887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4A7D-63A1-4C7C-BA32-D993EE216D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6E04-4A5D-46BC-8066-58865A6D4F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i de la autobu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3T07:46:41Z</dcterms:modified>
  <cp:revision>6</cp:revision>
  <dc:subject/>
  <dc:title>Petrolul mişcă omenirea</dc:title>
</cp:coreProperties>
</file>